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461-BECD-47B0-9289-49DF5DD3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494-406A-4CB1-8084-9665715D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856-FEA7-4DB9-B625-F7FB4AE2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EC9-E4C7-46DD-9BDC-04807AD6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99E95-64AA-458D-9930-97140BB1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8AE9C-1145-4570-BF55-7BA33781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FB1FB-601D-4E12-9359-A6736E6B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47BDB-453E-46B1-92A5-E1A83C90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03330-90C7-4331-97B2-8EF6FA71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91BE4-0723-45C8-9AB2-BC58A799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5852A-8887-4D52-BBD9-4AE22E9E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A48-D548-4695-BCBC-4F7E8C54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E0AF0-507C-4FB9-9211-DAEA5D3F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98065-2CE8-4ADA-8CA0-2CA748FA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05F13-70CC-4890-A30F-E21969F3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531BD-9540-40DB-ADBA-9D57B515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19FF2-DBCB-4162-BCB2-88E7058F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3C3-FB56-45A3-BAC1-84B50B87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5A5-DD8D-4D29-9711-90702B89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F38-2995-4835-85EC-DD39DEC9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4637-BCA7-4EA6-B070-C96C0863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4D94-E217-411B-A011-97D06A35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03A-B14B-4DBD-B158-D198E25B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3EC-DD2A-4F7D-A587-EEF1922B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52AC-CCEF-431E-B7D4-82C1EF1CF8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 Unicode MS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3F8D-EAE0-4364-A6AF-BF72B378C6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 Unicode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 Unicode MS"/>
              </a:rPr>
              <a:t>Joshua: The New Leader</a:t>
            </a:r>
            <a:endParaRPr b="0" lang="en-US" sz="5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Quarter 3, Lesson 3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Josh. 1:1 – 6:27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(Pages 18-25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6284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620120" y="2514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r Satellite View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7977240" cy="6091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2895480" y="609480"/>
            <a:ext cx="1623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now Cap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4218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457200" y="4495680"/>
            <a:ext cx="407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 - City of Palm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410080" y="3295800"/>
            <a:ext cx="2381400" cy="3562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838080" y="3733920"/>
            <a:ext cx="1381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238880" cy="4310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2133720" y="0"/>
            <a:ext cx="4448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Israelites March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round Jericho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47680" y="228600"/>
            <a:ext cx="4788000" cy="5670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638680" y="838080"/>
            <a:ext cx="3124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st Concept of How The Walls Fell Down A Sloping Rock Foundation, Considering Present Remain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4800600" cy="6856560"/>
            <a:chOff x="0" y="0"/>
            <a:chExt cx="4800600" cy="6856560"/>
          </a:xfrm>
        </p:grpSpPr>
        <p:pic>
          <p:nvPicPr>
            <p:cNvPr id="125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4800600" cy="653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444840" y="6280920"/>
              <a:ext cx="1352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0520" y="6346080"/>
              <a:ext cx="214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H="1">
            <a:off x="3428640" y="3124080"/>
            <a:ext cx="2057400" cy="762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3343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ossing 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orda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505320"/>
            <a:ext cx="33526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ing the Jordan Rive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:1-17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nes for the Monument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:1-9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Ark moves into Canaa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:10-13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ument at Gilga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:19-24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152280"/>
            <a:ext cx="3505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Charge to Joshua - 1:1-9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shua’s Command to the People - 1:10-18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ying Jericho: Rahab’s Help - 2:1-24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3886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3886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962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1911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4800600" cy="6877080"/>
            <a:chOff x="0" y="0"/>
            <a:chExt cx="4800600" cy="6877080"/>
          </a:xfrm>
        </p:grpSpPr>
        <p:pic>
          <p:nvPicPr>
            <p:cNvPr id="138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4800600" cy="656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443040" y="6301440"/>
              <a:ext cx="13543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0520" y="6366600"/>
              <a:ext cx="2139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4952880" y="457200"/>
            <a:ext cx="4038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vents At Gilgal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352680" y="1219320"/>
            <a:ext cx="3276720" cy="2819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752480" y="3048120"/>
            <a:ext cx="1219320" cy="49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3581280"/>
            <a:ext cx="68580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3124080"/>
            <a:ext cx="37335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ngs of the Amorites and Canaanites feared Israel – 5:1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n circumcision – 5:2-9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ssover kept &amp; manna ceases – 5:10-12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XBlk BT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Futura XBlk BT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 Unicode MS"/>
              </a:rPr>
              <a:t>What has happened…</a:t>
            </a: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Joshua is their new leader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have spied out the land (Jericho)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crossed the Jordan River on dry land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made the memorials for future generations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have encamped at Gilgal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Joshua is now equal to Moses in their sight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 men were circumcised to roll away the reproach of Egypt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 Unicode MS"/>
              </a:rPr>
              <a:t>What has happened…</a:t>
            </a: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observed the Passover to celebrate the 40 years (to the night) since the firstborn of Israel were saved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have eaten of the produce of the land of Canaan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God stopped the manna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Joshua was standing on holy ground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are now in the mist of their enemies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4800600" cy="6842160"/>
            <a:chOff x="0" y="0"/>
            <a:chExt cx="4800600" cy="6842160"/>
          </a:xfrm>
        </p:grpSpPr>
        <p:pic>
          <p:nvPicPr>
            <p:cNvPr id="152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4800600" cy="65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444840" y="6266520"/>
              <a:ext cx="1352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0520" y="6331680"/>
              <a:ext cx="214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55" name=""/>
          <p:cNvSpPr txBox="1"/>
          <p:nvPr/>
        </p:nvSpPr>
        <p:spPr>
          <a:xfrm>
            <a:off x="1676520" y="3200400"/>
            <a:ext cx="162396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erich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3581280"/>
            <a:ext cx="457200" cy="304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62520" y="304920"/>
            <a:ext cx="4905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quest of 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entral Hill Countr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1981080"/>
            <a:ext cx="4114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rince of Jehovah’s Army – 5:13 – 6:5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Battle for Jericho – 6:6-27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352680"/>
            <a:ext cx="30477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 – 6:1-7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March – 6:3-21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hab saved – 6:22-25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se on the Rebuilder – 6:26,27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f: 1 Kgs.16:34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3809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428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H="1">
            <a:off x="2590920" y="2590920"/>
            <a:ext cx="3962160" cy="1676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477120" y="2438280"/>
            <a:ext cx="1380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42840" y="1676520"/>
            <a:ext cx="2971800" cy="2438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447920"/>
            <a:ext cx="1086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ilgal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257800" y="1066680"/>
            <a:ext cx="33526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ice The Elevation Levels,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Jordan Valley,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Jerich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66680" y="227160"/>
            <a:ext cx="7162920" cy="638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7:00:00Z</dcterms:created>
  <dc:creator>Terry W. Benton</dc:creator>
  <dc:description/>
  <dc:language>en-US</dc:language>
  <cp:lastModifiedBy>Frank D Vines</cp:lastModifiedBy>
  <dcterms:modified xsi:type="dcterms:W3CDTF">2005-01-09T14:15:56Z</dcterms:modified>
  <cp:revision>15</cp:revision>
  <dc:subject/>
  <dc:title>Joshua: The New Leader</dc:title>
</cp:coreProperties>
</file>